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AC1C-C18D-42F8-9C01-6B3CF7898ED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DC7-C2FF-434D-8B58-61F43E1A0C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20T11:50:18Z</dcterms:modified>
  <cp:revision>223</cp:revision>
  <dc:subject/>
  <dc:title>Slide 1</dc:title>
</cp:coreProperties>
</file>